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2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9878-46FC-4922-9F82-BF07C25A8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-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- link/framing other student’s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- point out the larger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- Look carefully at works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- Talk about what they ob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- Back up their ideas with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 - Listen to and consider the view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-   Discuss many possible interpre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did V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ual Thinking Strategies (VTS) teaching method and school curriculum centers on open-ended yet highly-structured discussions of visual art, significantly increasing students' critical thinking, language and literacy skills along the way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Audrey Morton Miller expressed that VTS is “an exciting way to get students talking, observing, making inferences, and backing them up. And it's had a big effect on me as a teacher. I've gone from being the expert, the one who always has the knowledge, to being more of a facilitat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n’s rationale for using art as the vehicle for learning and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part of her research, Housen described 5 stages apparent through the AD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Abigail Housen's research demonstrated that viewers understand works of art in predictable patterns called stages. She found that when asked viewers talk in a stream-of-consciousness monologue about an image, and every idea, association, pause, and observation is transcribed and analyzed, the different stages become ap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ive - observation, narrative, judgments are based on what is known and what is liked, emotions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ve - build framework for viewing art, judgment and value often based on re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ying - associate work to facts, history, etc. look at it like an art histor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ve - critical skills are put in the service of feelings and intuitions as these viewers let underlying meanings of the work what it symbolizes eme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Creative - willingly suspend belief, treat art as an old friend but allow it to still surprise with new thoughts/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19D-D229-4A13-91A1-13D12B93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286-7DCF-4B46-8F1F-BF637C26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CE0-74B3-4234-8F1C-E2DFB4FB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E1A-16BF-4BAB-846C-A61AD9C4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3322-66C0-4FF1-BB7D-ED2E86C4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B50A-8329-4698-91A6-92EB428E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4670-EE9F-4B30-AFB0-BD118697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5145-1348-4403-84B8-1ED5E473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79F6-70D9-40BB-A163-74C4356C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8BFE-4C90-4F42-81D3-8BBF961F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4257-CCD4-4272-A8D9-CCC29B4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EC0-1C56-411B-9E67-A210C5CA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2D07-9CB7-4811-85B6-D44C565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10F1-E6EC-4F2F-A1CF-C6CB534F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CAFF-E137-44CB-B608-0D571D4D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1787-A0C6-4D21-8986-5EB9BE16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390B-B9D0-44BA-ADD7-299786C1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4F6-F77E-40D4-AFB6-75D2488D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1DB-9E4C-4B65-A1A3-552DF6F3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83C-3C0C-46FB-956F-E13880F2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9AE-76F0-4AB6-BD24-DAF0187C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058-3BDD-4DB4-8325-B191BC93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847-D4CE-4A55-9826-9DA656CA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A38-C069-49DF-8528-D9143BB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E57-475E-494F-9161-876B5FA66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878-F2EF-414C-9170-A1D726BD1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THINKING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Ga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ROOM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use three techniques while students discus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Paraph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Conn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Fo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ROOM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Ob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Disc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Def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Accept diverse view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ang-O'Higgins, Y. (Performer) (2012). Visual thinking strategies public seminar [Web]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ieved from http://www.youtube.com/watch?v=48JVXb2PC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bertson, K. (2006). Visual thinking strategies for improved comprehension. Retrie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ttp://www.colorincolorado.org/article/13279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ith, F. (2008, October 08). The eyes have it: Potent visuals promote academ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chness. Retrieved from http://www.edutopia.org/visual-thinking-strategies-art-curricul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pson, J. (n.d.). Visual thinking strategies. Retrieved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ntemporaryartscenter.org/visual-thinking-strate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ual thinking strategies. (n.d.). Retrieved from http://vtshome.org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GOING ON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914400"/>
            <a:ext cx="55627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of learning for students that uses art as a catalyst for discu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hin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use artworks and imagery to start a dialo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facilitate discussion amongst students being neutral and unbi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lead discu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S fosters a respectful, safe environment to express opinions and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mith,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and researched by Abigail Housen and Phillip Yenaw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research in 19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omp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thetic Development Interview (ADI) utilized to study over 4,000 su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 is shown various ar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er does not ask guiding questions, only invites subject to 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 is recorded, then dissected, then categorized into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condary information like portfolios and journals also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's subjects cover age-old stories often addressing universal human concerns and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's subjects transcend economic and cultural bound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 is intentionally ambiguous, open to a variety of interpre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lings are embedded in art along with information, triggering a full range of expression from those who look at it thoughtfu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yers of meaning, symbols and metaphor encourage probing and reflecting in young people, as they do in adul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STAGES - STAG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1 - Accoun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2 - Con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3 - Classif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4 - Interpre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5 - Re-Cre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ROOM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ask three ques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's going on in this pictur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see that makes you say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ore can we find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Visual Thinking Strategi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21:03:06Z</dcterms:created>
  <dc:creator>Jessica Gaston</dc:creator>
  <dc:description/>
  <dc:language>en-US</dc:language>
  <cp:lastModifiedBy>Jessica Gaston</cp:lastModifiedBy>
  <dcterms:modified xsi:type="dcterms:W3CDTF">2012-07-05T21:34:37Z</dcterms:modified>
  <cp:revision>55</cp:revision>
  <dc:subject/>
  <dc:title>VISUAL THINKING STRATEGIES</dc:title>
</cp:coreProperties>
</file>